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PH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PH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FC5AD-838B-4BB3-AB8A-029F84F3204F}" type="slidenum">
              <a:rPr b="0" lang="en-P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EC7DD-7CD1-400D-AD56-18D69628F15E}" type="slidenum">
              <a:rPr b="0" lang="en-P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856A5-DD19-4988-ADD6-3BE399E2BC94}" type="slidenum">
              <a:rPr b="0" lang="en-P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E0507-515E-4144-89B7-3EB6794E7ABB}" type="slidenum">
              <a:rPr b="0" lang="en-P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05007-DB76-4F42-AE83-9A58748778C8}" type="slidenum">
              <a:rPr b="0" lang="en-P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E96E7-D870-4999-B9A6-AE658B14411F}" type="slidenum">
              <a:rPr b="0" lang="en-P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E5418-8ABA-4EEA-B0FD-EC6370B0D285}" type="slidenum">
              <a:rPr b="0" lang="en-P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A02F5-2B2E-4F50-8F0C-171AD6FF5B81}" type="slidenum">
              <a:rPr b="0" lang="en-P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CB104-4CCA-467D-9F7D-FCBED65B4A60}" type="slidenum">
              <a:rPr b="0" lang="en-P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0D393-FEB4-47C0-ABE9-E53538FCE5B9}" type="slidenum">
              <a:rPr b="0" lang="en-P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1961B-012A-4BF1-83BD-1F6B41E2F28E}" type="slidenum">
              <a:rPr b="0" lang="en-P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06BD0-3E45-4A4E-90DB-D814CB5FA125}" type="slidenum">
              <a:rPr b="0" lang="en-P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8E247-9C90-48D3-B678-54C4D9E2AE68}" type="slidenum">
              <a:rPr b="0" lang="en-P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BA0DA-B2CA-4677-AA75-6622DE3CA163}" type="slidenum">
              <a:rPr b="0" lang="en-P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DED1D-93E6-4FFD-91AA-7B431C7AE85C}" type="slidenum">
              <a:rPr b="0" lang="en-P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9B7CE-4501-4418-8D85-766156070E18}" type="slidenum">
              <a:rPr b="0" lang="en-P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18AE3-0820-4199-ABDA-9B1489770565}" type="slidenum">
              <a:rPr b="0" lang="en-P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E5971-B584-4905-9735-58C3E5749EE2}" type="slidenum">
              <a:rPr b="0" lang="en-P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53B6F-4A30-4173-A47D-DBD30A60D9CC}" type="slidenum">
              <a:rPr b="0" lang="en-P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9F998-CA5D-47C3-A28B-EB01A34F4103}" type="slidenum">
              <a:rPr b="0" lang="en-P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960D8-5FB2-46F2-B6C4-AA277F120732}" type="slidenum">
              <a:rPr b="0" lang="en-P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8ED82-3618-4DE8-A675-237ADE8B92D4}" type="slidenum">
              <a:rPr b="0" lang="en-P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D09EB-CE49-4324-A43F-A0A603EB8FF7}" type="slidenum">
              <a:rPr b="0" lang="en-P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15ABE-2486-47D0-B173-63DD300FB376}" type="slidenum">
              <a:rPr b="0" lang="en-P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D7E95-CC53-45FB-974F-87F35C342813}" type="slidenum">
              <a:rPr b="0" lang="en-P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AB3B3-AB0A-4E06-B001-00AFE0F8C7CC}" type="slidenum">
              <a:rPr b="0" lang="en-P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62397-7A97-40F5-A340-5BA32C0C8B13}" type="slidenum">
              <a:rPr b="0" lang="en-P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86FF2-D222-4011-B2D8-FD6F0D3785DB}" type="slidenum">
              <a:rPr b="0" lang="en-P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BE289-D7B5-41B8-8C63-DD2679585692}" type="slidenum">
              <a:rPr b="0" lang="en-P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E61A0-664B-486E-AB0F-4E497E1B7B43}" type="slidenum">
              <a:rPr b="0" lang="en-P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6FA04-0B55-40D1-A9DC-7C59DCAB45F8}" type="slidenum">
              <a:rPr b="0" lang="en-P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74B19-02F6-4018-BA86-F9B6D760DD56}" type="slidenum">
              <a:rPr b="0" lang="en-P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680A9-754B-4585-8127-F70338FD3982}" type="slidenum">
              <a:rPr b="0" lang="en-P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378AF-983B-4DD7-8E5C-BF08DB725EDB}" type="slidenum">
              <a:rPr b="0" lang="en-P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13008-0917-42E0-915A-D53F86A10971}" type="slidenum">
              <a:rPr b="0" lang="en-P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BC6D2-1CA3-436E-B034-766BBE258A8A}" type="slidenum">
              <a:rPr b="0" lang="en-P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21385-0212-4928-9E03-A3C40C389B91}" type="slidenum">
              <a:rPr b="0" lang="en-P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5ACD1-29D1-4D50-BB4E-BF0C28583115}" type="slidenum">
              <a:rPr b="0" lang="en-P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81DA3-2452-4DD6-B24A-9B507E4D7494}" type="slidenum">
              <a:rPr b="0" lang="en-P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25F38-ADCF-4231-8974-372EA9CA0DB3}" type="slidenum">
              <a:rPr b="0" lang="en-P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88B36-A582-4376-93CF-056F6DB44EB2}" type="slidenum">
              <a:rPr b="0" lang="en-P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FE746-EC0D-4872-B6F2-35B14A045A41}" type="slidenum">
              <a:rPr b="0" lang="en-P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C1829-D169-4CA4-AB55-B8D14F88C190}" type="slidenum">
              <a:rPr b="0" lang="en-P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B94A9-7552-45E3-B020-47BDD71A107B}" type="slidenum">
              <a:rPr b="0" lang="en-P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28543-1574-41DD-B7CD-7F63BCE89338}" type="slidenum">
              <a:rPr b="0" lang="en-P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AD02-C3EC-4268-A0CB-8552D5267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8440" y="1828440"/>
            <a:ext cx="7162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8440" y="4097160"/>
            <a:ext cx="7162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72D2-7128-4D87-94B2-29A814E4C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8440" y="18284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99000" y="18284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8440" y="40971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99000" y="40971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048D-BA95-4B85-91AC-6021B9E63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8440" y="182844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50160" y="182844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72240" y="182844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8440" y="409716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50160" y="409716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72240" y="409716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371C-E1E8-4D1C-8D73-002168106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92BBA-4354-49C8-8E07-84C9AC32C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828440" y="18284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40F82-D9D9-46A1-9684-91203BF7B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828440" y="18284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22F3B-3602-4641-9BA6-F6984AA72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828440" y="18284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99000" y="18284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853A1-7E1B-4E08-AA85-51E4AF05C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73D80-8D68-4799-8825-805C395DB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47560" y="22824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BB599-D2D8-42B8-BA4E-4CAC22768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828440" y="18284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99000" y="18284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828440" y="40971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29B98-B540-4647-B910-7C614F02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8440" y="18284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6FC1-7E02-4221-BE9A-DFEE4144F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828440" y="18284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99000" y="18284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99000" y="40971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7E471-6233-495F-80EE-92CCE71B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828440" y="18284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99000" y="18284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828440" y="4097160"/>
            <a:ext cx="7162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BEC95-83F7-4300-A657-D7BA3D843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828440" y="1828440"/>
            <a:ext cx="7162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828440" y="4097160"/>
            <a:ext cx="7162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4B424-F413-4F37-BA5F-4228F2D9B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828440" y="18284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99000" y="18284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828440" y="40971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99000" y="40971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3EFEF-FEF7-4F6C-9DF1-268E68681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828440" y="182844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50160" y="182844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72240" y="182844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828440" y="409716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250160" y="409716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72240" y="409716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1BA69-A124-4944-93C4-1916413CE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8440" y="18284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A734-9336-428F-B649-E5E98325E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8440" y="18284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99000" y="18284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6A2A-FC30-46BB-9032-904DC74E4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C16D-108E-4F1D-A666-D397305FD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7560" y="22824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B899-482B-44A2-9FCB-111D0698F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8440" y="18284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99000" y="18284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8440" y="40971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8601-3F2F-4110-BD13-10802D26C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8440" y="18284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99000" y="18284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99000" y="40971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1F22-812C-4F27-A30B-2EF69A3A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8440" y="18284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99000" y="18284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8440" y="4097160"/>
            <a:ext cx="7162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30E4-974B-4194-A9E7-C59C5BAF9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8440" y="18284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0612A-DA09-4524-ABFE-3D5FE6F6A9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828440" y="18284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24ED9-FC2D-4391-ABD0-7EBAC75007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alientravelguide.com/credits/corel.htm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omic Sans MS"/>
              </a:rPr>
              <a:t>Oedipus Rex</a:t>
            </a:r>
            <a:endParaRPr b="1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3244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y Sophocl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4"/>
          <p:cNvSpPr/>
          <p:nvPr/>
        </p:nvSpPr>
        <p:spPr>
          <a:xfrm>
            <a:off x="2741760" y="1754280"/>
            <a:ext cx="2896920" cy="841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OEDIPUS REX</a:t>
            </a:r>
            <a:endParaRPr b="1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828440" y="18284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 TRAGEDY is a serious drama featuring a main character who strives to achieve something and is ultimately defeated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OEDIPUS REX</a:t>
            </a:r>
            <a:endParaRPr b="1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76520" y="1980720"/>
            <a:ext cx="71625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The main character’s downfall is </a:t>
            </a:r>
            <a:r>
              <a:rPr b="1" i="1" lang="en-US" sz="4800" spc="-1" strike="noStrike">
                <a:solidFill>
                  <a:srgbClr val="000000"/>
                </a:solidFill>
                <a:latin typeface="Comic Sans MS"/>
              </a:rPr>
              <a:t>often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due to an inborn character flaw or weakness –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the tragic flaw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1523880" y="304920"/>
            <a:ext cx="7239240" cy="838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EDIPUS REX - Background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99840" y="1371600"/>
            <a:ext cx="7162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During the early years of the Peloponnesian War, when Oedipus Rex was produced, Athens suffered from political instability and devastating plague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3" name="Picture 5" descr="is?87320363864"/>
          <p:cNvPicPr/>
          <p:nvPr/>
        </p:nvPicPr>
        <p:blipFill>
          <a:blip r:embed="rId1"/>
          <a:stretch/>
        </p:blipFill>
        <p:spPr>
          <a:xfrm>
            <a:off x="0" y="1676520"/>
            <a:ext cx="1600200" cy="1251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animClr clrSpc="rgb">
                                      <p:cBhvr>
                                        <p:cTn id="1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set>
                                      <p:cBhvr>
                                        <p:cTn id="119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523880" y="304920"/>
            <a:ext cx="7239240" cy="838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EDIPUS REX - Background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99840" y="1371600"/>
            <a:ext cx="7162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Sophocles opens his play with a situation that the people of Athens could identify with: a plague with no end in sight!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7" name="Picture 5" descr="is?87320363864"/>
          <p:cNvPicPr/>
          <p:nvPr/>
        </p:nvPicPr>
        <p:blipFill>
          <a:blip r:embed="rId1"/>
          <a:stretch/>
        </p:blipFill>
        <p:spPr>
          <a:xfrm>
            <a:off x="0" y="1676520"/>
            <a:ext cx="1600200" cy="1251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ancientathens"/>
          <p:cNvPicPr/>
          <p:nvPr/>
        </p:nvPicPr>
        <p:blipFill>
          <a:blip r:embed="rId1"/>
          <a:srcRect l="3489" t="0" r="1091" b="3846"/>
          <a:stretch/>
        </p:blipFill>
        <p:spPr>
          <a:xfrm>
            <a:off x="2133720" y="1066680"/>
            <a:ext cx="6400800" cy="39038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6"/>
          <p:cNvSpPr/>
          <p:nvPr/>
        </p:nvSpPr>
        <p:spPr>
          <a:xfrm>
            <a:off x="1768680" y="5638680"/>
            <a:ext cx="69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ncient Athens – 5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Century B. 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ancientathens4"/>
          <p:cNvPicPr/>
          <p:nvPr/>
        </p:nvPicPr>
        <p:blipFill>
          <a:blip r:embed="rId1"/>
          <a:stretch/>
        </p:blipFill>
        <p:spPr>
          <a:xfrm>
            <a:off x="2209680" y="1281240"/>
            <a:ext cx="5924520" cy="42940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OEDIPUS REX-Prologue </a:t>
            </a:r>
            <a:endParaRPr b="1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676520" y="1980720"/>
            <a:ext cx="71625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The city of Thebes is ravaged by plague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Citizens beg King Oedipus for help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7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OEDIPUS REX-Prologue </a:t>
            </a:r>
            <a:endParaRPr b="1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676520" y="1980720"/>
            <a:ext cx="71625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Oedipus sends his brother-in-law, Creon, to the oracle of Apollo at Delphi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4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OEDIPUS REX-Prologue </a:t>
            </a:r>
            <a:endParaRPr b="1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676520" y="1980720"/>
            <a:ext cx="71625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reon returns and announces that the plague will end when the Thebans punish the murderer of the their previous king, Laiu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OEDIPUS REX-Prologue </a:t>
            </a:r>
            <a:endParaRPr b="1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600200" y="1523880"/>
            <a:ext cx="7238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Oedipus tries to take the role of savior and vows to do everything in his power to apprehend the murderer and save his people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8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4"/>
          <p:cNvSpPr/>
          <p:nvPr/>
        </p:nvSpPr>
        <p:spPr>
          <a:xfrm>
            <a:off x="5257800" y="380880"/>
            <a:ext cx="3657600" cy="990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Sophocles</a:t>
            </a:r>
            <a:endParaRPr b="1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828440" y="18284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496 – 406 B. C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a playwright who lived a long, comfortable, happy life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grew up in a wealthy family in ATHENS, GREECE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OEDIPUS REX-Prologue </a:t>
            </a:r>
            <a:endParaRPr b="1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23520" y="1257480"/>
            <a:ext cx="7239240" cy="52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Oedipus does not realize that his vow will relentlessly lead him to an encounter with himself, his past, and his darkest secrets!!!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5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MAIN CHARACTER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Teiresias</a:t>
            </a:r>
            <a:endParaRPr b="1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23520" y="1257480"/>
            <a:ext cx="7239240" cy="52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blind prophet and servant of Apollo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reveals the reasons for the devastation and plague in Thebe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2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7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Teiresias</a:t>
            </a:r>
            <a:endParaRPr b="1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23520" y="1257480"/>
            <a:ext cx="7239240" cy="52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one of the most powerful characters in the play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tells Oedipus he will become blind and poor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4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9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Jocasta</a:t>
            </a:r>
            <a:endParaRPr b="1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600200" y="1294920"/>
            <a:ext cx="7315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wife and mother of Oedip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he tells Oedipus not to trust in the orac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he tries to protect Oedipus from the awful trut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2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Jocasta</a:t>
            </a:r>
            <a:endParaRPr b="1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600200" y="1294920"/>
            <a:ext cx="7315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he alternately condemns and upholds the authority of the oracles as best suits the direction of the argument at the mo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Oedipus</a:t>
            </a:r>
            <a:endParaRPr b="1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828800" y="1599840"/>
            <a:ext cx="7315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protagonis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his name means “swollen-foot”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he inspires both pity and fea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Oedipus</a:t>
            </a:r>
            <a:endParaRPr b="1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828800" y="1599840"/>
            <a:ext cx="7315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hereditary curse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has been placed on his family, and he unknowingly has fulfilled the terms of the prophecy that he would kill his father (Laius) and marry his own mother (Jocasta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0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Oedipus</a:t>
            </a:r>
            <a:endParaRPr b="1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828800" y="1599840"/>
            <a:ext cx="7315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en he curses the murderer of Laius he is cursing himself and predicting his own exile and consequent life of “wretchedness.”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Oedipus</a:t>
            </a:r>
            <a:endParaRPr b="1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828800" y="1599840"/>
            <a:ext cx="7315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he is wise, revered by his subjects, and dedicated to the discovery of trut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he wants to rid Thebes of the plague, but fate and the gods have other things in store for hi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5257800" y="380880"/>
            <a:ext cx="3657600" cy="990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Sophocles</a:t>
            </a:r>
            <a:endParaRPr b="1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828440" y="18284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his dramatic work portrayed misery and tragedy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he also became a distinguished public official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horus of Theban Elders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600200" y="1294920"/>
            <a:ext cx="7315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men of Thebes who honor and respect the king and the god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ir odes reveal both a strong attachment to the king as well as grounding in religious cultur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Creon</a:t>
            </a:r>
            <a:endParaRPr b="1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600200" y="1294920"/>
            <a:ext cx="7315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brother of Laiu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Oedipus feels threatened by Creon and believes that he covets the thron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reon defends himself saying he has no desire to be king and that Oedipus harms himself in making such accusatio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Messenger</a:t>
            </a:r>
            <a:endParaRPr b="1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600200" y="1294920"/>
            <a:ext cx="7315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ells Oedipus that King Polybos of Corinth is dea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Oedipus learns from the messenger that Polybos was not his fathe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messenger had been given Oedipus as an infant by one of Laius’ me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Shepherd of Laius</a:t>
            </a:r>
            <a:endParaRPr b="1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600200" y="1294920"/>
            <a:ext cx="7315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reveals his information only after Oedipus threatens his lif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dmits to receiving the infant (he gave to Polybos’ messenger) from Laius and Jocast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edipus eventually realizes his own identity and his crimes of patricide and incest after hearing the shepherd’s sto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7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Second Messenger</a:t>
            </a:r>
            <a:endParaRPr b="1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600200" y="1294920"/>
            <a:ext cx="7315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nnounces and describes Jocasta’s suic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predicts future sorrows for a people whose kings descend from this polluted 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The Chorus</a:t>
            </a:r>
            <a:endParaRPr b="1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600200" y="1294920"/>
            <a:ext cx="7315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horal odes bring an additional viewpoint to the pla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offer a broader and more socio-religious perspective than those offered by individual charact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MES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828440" y="18284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quest for identity and trut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nature of innocence and guil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nature of moral responsi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0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7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4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magery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828440" y="18284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references to light and darkness to predict the fu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3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Example of Imagery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828440" y="18284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priest says at the beginning: "All the house of Kadmos is laid waste; all emptied, and all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darkened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2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Example of Imagery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828440" y="18284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Oedipus promises Creon: “Then once more I must bring what is dark to light.”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1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5257800" y="380880"/>
            <a:ext cx="3657600" cy="990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Sophocles</a:t>
            </a:r>
            <a:endParaRPr b="1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47920" y="1523520"/>
            <a:ext cx="76960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produced 123 plays (only seven survive today)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the age of Sophocles in Greece was a time when anything seemed possible through human effort and reason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Example of Foreshadowing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23880" y="1257480"/>
            <a:ext cx="7391520" cy="52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eiresias tells Oedipus that it is he who is blin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But I say that you, with both your eyes, are blind.  You cannot see the wretchedness of your life”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0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7" dur="1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UMMARY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905120" y="1295280"/>
            <a:ext cx="670536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edipus Rex is the story of a king of Thebes upon whom a hereditary curse is placed and who therefore has to suffer the tragic consequences of fate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UMMARY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905120" y="1295280"/>
            <a:ext cx="670536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uring the time of plague, fires ,and other forms of decimation, Oedipus decides to take action to restore life and prosperity to his kingdom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UMMARY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905120" y="1295280"/>
            <a:ext cx="670536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edipus discovers, through his quest for truth, that his identity is not what he thought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e learns he has killed his father, married his mother, and had children with her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UMMARY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905120" y="1295280"/>
            <a:ext cx="670536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edipus’ wife/mother – Jocasta – kills herself and Oedipus blinds himself and goes into exil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reon becomes King of Theb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5257800" y="380880"/>
            <a:ext cx="3657600" cy="990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Sophocles</a:t>
            </a:r>
            <a:endParaRPr b="1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828440" y="18284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toward the end of Sophocles’ life, Athens raged a war against Sparta, their bitter rival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there also was a great plague in 430 B. C.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5257800" y="380880"/>
            <a:ext cx="3657600" cy="990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Sophocles</a:t>
            </a:r>
            <a:endParaRPr b="1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828440" y="18284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Sophocles’ surviving plays (written after 440 B.C.) are deeply troubling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5257800" y="380880"/>
            <a:ext cx="3657600" cy="990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Sophocles</a:t>
            </a:r>
            <a:endParaRPr b="1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828440" y="18284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These plays depict characters caught up in unsolvable dilemmas that test their faith in divine and human justice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1219320" y="1981080"/>
            <a:ext cx="6858000" cy="17528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OEDIPUS REX</a:t>
            </a:r>
            <a:endParaRPr b="1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257120" y="396252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OEDIPUS REX</a:t>
            </a:r>
            <a:endParaRPr b="1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828440" y="1828440"/>
            <a:ext cx="3505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one of the world’s greatest traged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4" name="Picture 5" descr="TRAGED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10080" y="2260440"/>
            <a:ext cx="3505320" cy="23371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13:12:25Z</dcterms:created>
  <dc:creator>EM28</dc:creator>
  <dc:description/>
  <dc:language>en-US</dc:language>
  <cp:lastModifiedBy>Windows7</cp:lastModifiedBy>
  <dcterms:modified xsi:type="dcterms:W3CDTF">2012-01-21T11:59:07Z</dcterms:modified>
  <cp:revision>32</cp:revision>
  <dc:subject/>
  <dc:title>Oedipus Rex</dc:title>
</cp:coreProperties>
</file>